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358A-7391-41EA-B315-A13E9CB6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6C16-F4EF-4AC1-B804-2DDAD322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DFA7-EBB1-4AC2-95C2-AE1BE924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88B2-3E30-4122-B474-EB7132FEC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2361-4ED7-40F1-AFDF-7212D537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3D65-DDC6-4201-B9C9-3D78DC96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BC16-1C82-4274-91E3-DC394153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8CD9-6D06-465B-85EC-BE12EB25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AFA7-C8E5-472E-9CB0-B087E574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A6BD-EB74-47B8-80D6-D5EBA18C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E1DC-22ED-409C-A3E3-3B7B0993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0E8A-F4F2-4EB8-A4E0-28329E92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F33E-646C-4208-B774-4EEFFE7DD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Развитие регулятивных УУД на урок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втор презентаци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вершина Татьяна Михайловна, учитель начальных клас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БОУ ЛСОШ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.Лешукон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Проверь своё реше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лина ленты равна 18 метров. От ленты отрезали её шестую часть. Какую длину имеет оставшийся кус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443640" y="3716280"/>
            <a:ext cx="2454120" cy="2873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0880" y="3505320"/>
            <a:ext cx="60199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Решение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18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: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6 = 3 (м) – шестая ч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18 – 3 = 15 (м) – осталос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твет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: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15 мет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Светоф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905120" y="1447920"/>
            <a:ext cx="960480" cy="1935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209680" y="4343400"/>
            <a:ext cx="895320" cy="1905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429000" y="20574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е знаю от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57600" y="51055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 го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Преднамеренная ошиб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1905120"/>
            <a:ext cx="9144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Оценивание 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92360" y="1268280"/>
            <a:ext cx="5400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я молодец, у меня сегодня всё получило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87640" y="1484280"/>
            <a:ext cx="0" cy="453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71640" y="1484280"/>
            <a:ext cx="43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1640" y="6021360"/>
            <a:ext cx="43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71640" y="3716280"/>
            <a:ext cx="43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5157720"/>
            <a:ext cx="547380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еня ничего не получалось, 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ледующем уроке я бу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19640" y="2997360"/>
            <a:ext cx="5545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тарался(лась), но у меня бы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ибк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43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Оценивание 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92360" y="1268280"/>
            <a:ext cx="5400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решил(а) без оши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87640" y="1484280"/>
            <a:ext cx="0" cy="453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1484280"/>
            <a:ext cx="43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71640" y="6021360"/>
            <a:ext cx="43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71640" y="3716280"/>
            <a:ext cx="43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589720"/>
            <a:ext cx="50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е смог(ла) реш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9640" y="3213000"/>
            <a:ext cx="5545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ешил(а), но допустил(а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иб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Закончи предлож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Я узнал, что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Я научился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не удалось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не было трудно … и т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1689120" cy="1833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33520" y="2590920"/>
            <a:ext cx="1801800" cy="2303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849240" y="4921200"/>
            <a:ext cx="1443240" cy="1936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971800" y="1143000"/>
            <a:ext cx="54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У меня всё получалось, я молод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3276720"/>
            <a:ext cx="56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Я старался, но не всё получало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16360" y="5300640"/>
            <a:ext cx="6227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Я испытывал затрудне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мне было ску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95680" y="3049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Покажите цвето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Составим букетик для ма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3825720" cy="5410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343400" y="5105520"/>
            <a:ext cx="4572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рок математики по тем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 сколько раз больше или меньше?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Овал 6"/>
          <p:cNvSpPr/>
          <p:nvPr/>
        </p:nvSpPr>
        <p:spPr>
          <a:xfrm>
            <a:off x="5867280" y="3276720"/>
            <a:ext cx="3086280" cy="1428480"/>
          </a:xfrm>
          <a:prstGeom prst="ellipse">
            <a:avLst/>
          </a:prstGeom>
          <a:solidFill>
            <a:srgbClr val="fed46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61434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Виды 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универсальных 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учебных действ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вал 4"/>
          <p:cNvSpPr/>
          <p:nvPr/>
        </p:nvSpPr>
        <p:spPr>
          <a:xfrm>
            <a:off x="1295280" y="380880"/>
            <a:ext cx="6786720" cy="2168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вал 5"/>
          <p:cNvSpPr/>
          <p:nvPr/>
        </p:nvSpPr>
        <p:spPr>
          <a:xfrm>
            <a:off x="304920" y="3276720"/>
            <a:ext cx="2928960" cy="1428480"/>
          </a:xfrm>
          <a:prstGeom prst="ellipse">
            <a:avLst/>
          </a:prstGeom>
          <a:solidFill>
            <a:srgbClr val="a9d7e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7"/>
          <p:cNvSpPr/>
          <p:nvPr/>
        </p:nvSpPr>
        <p:spPr>
          <a:xfrm>
            <a:off x="1219320" y="5029200"/>
            <a:ext cx="2857320" cy="1428840"/>
          </a:xfrm>
          <a:prstGeom prst="ellipse">
            <a:avLst/>
          </a:prstGeom>
          <a:solidFill>
            <a:srgbClr val="e17b7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Овал 8"/>
          <p:cNvSpPr/>
          <p:nvPr/>
        </p:nvSpPr>
        <p:spPr>
          <a:xfrm>
            <a:off x="4952880" y="5029200"/>
            <a:ext cx="2857680" cy="1428840"/>
          </a:xfrm>
          <a:prstGeom prst="ellipse">
            <a:avLst/>
          </a:prstGeom>
          <a:solidFill>
            <a:srgbClr val="b9d77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10"/>
          <p:cNvSpPr/>
          <p:nvPr/>
        </p:nvSpPr>
        <p:spPr>
          <a:xfrm flipH="1">
            <a:off x="2805120" y="2562120"/>
            <a:ext cx="1884240" cy="91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12"/>
          <p:cNvSpPr/>
          <p:nvPr/>
        </p:nvSpPr>
        <p:spPr>
          <a:xfrm flipH="1">
            <a:off x="2647440" y="2562120"/>
            <a:ext cx="2041560" cy="245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3"/>
          <p:cNvSpPr/>
          <p:nvPr/>
        </p:nvSpPr>
        <p:spPr>
          <a:xfrm>
            <a:off x="4689360" y="2562120"/>
            <a:ext cx="1692360" cy="245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4"/>
          <p:cNvSpPr/>
          <p:nvPr/>
        </p:nvSpPr>
        <p:spPr>
          <a:xfrm>
            <a:off x="4689360" y="2562120"/>
            <a:ext cx="1630440" cy="91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58"/>
          <p:cNvSpPr/>
          <p:nvPr/>
        </p:nvSpPr>
        <p:spPr>
          <a:xfrm>
            <a:off x="5788080" y="3809880"/>
            <a:ext cx="31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ММУНИК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59"/>
          <p:cNvSpPr/>
          <p:nvPr/>
        </p:nvSpPr>
        <p:spPr>
          <a:xfrm>
            <a:off x="5014800" y="5562720"/>
            <a:ext cx="27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ЗНАВ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0"/>
          <p:cNvSpPr/>
          <p:nvPr/>
        </p:nvSpPr>
        <p:spPr>
          <a:xfrm>
            <a:off x="1508760" y="5486400"/>
            <a:ext cx="23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ЕГУЛЯ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61"/>
          <p:cNvSpPr/>
          <p:nvPr/>
        </p:nvSpPr>
        <p:spPr>
          <a:xfrm>
            <a:off x="684360" y="3809880"/>
            <a:ext cx="212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ЧНОС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Diagram 5"/>
          <p:cNvGrpSpPr/>
          <p:nvPr/>
        </p:nvGrpSpPr>
        <p:grpSpPr>
          <a:xfrm>
            <a:off x="310680" y="171000"/>
            <a:ext cx="8520840" cy="6272280"/>
            <a:chOff x="310680" y="171000"/>
            <a:chExt cx="8520840" cy="6272280"/>
          </a:xfrm>
        </p:grpSpPr>
        <p:sp>
          <p:nvSpPr>
            <p:cNvPr id="58" name="_s18436"/>
            <p:cNvSpPr/>
            <p:nvPr/>
          </p:nvSpPr>
          <p:spPr>
            <a:xfrm flipH="1" flipV="1">
              <a:off x="2875680" y="2414160"/>
              <a:ext cx="84708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8437"/>
            <p:cNvSpPr/>
            <p:nvPr/>
          </p:nvSpPr>
          <p:spPr>
            <a:xfrm>
              <a:off x="939240" y="1090080"/>
              <a:ext cx="2171160" cy="16290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Само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регуляц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8438"/>
            <p:cNvSpPr/>
            <p:nvPr/>
          </p:nvSpPr>
          <p:spPr>
            <a:xfrm flipH="1">
              <a:off x="2459520" y="3607560"/>
              <a:ext cx="1053720" cy="18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8439"/>
            <p:cNvSpPr/>
            <p:nvPr/>
          </p:nvSpPr>
          <p:spPr>
            <a:xfrm>
              <a:off x="310680" y="3157200"/>
              <a:ext cx="2171160" cy="1628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Оцен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8440"/>
            <p:cNvSpPr/>
            <p:nvPr/>
          </p:nvSpPr>
          <p:spPr>
            <a:xfrm flipH="1">
              <a:off x="3634560" y="4159800"/>
              <a:ext cx="466200" cy="73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8441"/>
            <p:cNvSpPr/>
            <p:nvPr/>
          </p:nvSpPr>
          <p:spPr>
            <a:xfrm>
              <a:off x="2076120" y="4814280"/>
              <a:ext cx="2171160" cy="16290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Коррекц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8442"/>
            <p:cNvSpPr/>
            <p:nvPr/>
          </p:nvSpPr>
          <p:spPr>
            <a:xfrm>
              <a:off x="5041080" y="4159800"/>
              <a:ext cx="472680" cy="73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8443"/>
            <p:cNvSpPr/>
            <p:nvPr/>
          </p:nvSpPr>
          <p:spPr>
            <a:xfrm>
              <a:off x="4901400" y="4812120"/>
              <a:ext cx="2171880" cy="1628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Контрол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8444"/>
            <p:cNvSpPr/>
            <p:nvPr/>
          </p:nvSpPr>
          <p:spPr>
            <a:xfrm>
              <a:off x="5628600" y="3607560"/>
              <a:ext cx="105732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8445"/>
            <p:cNvSpPr/>
            <p:nvPr/>
          </p:nvSpPr>
          <p:spPr>
            <a:xfrm>
              <a:off x="6660360" y="3155040"/>
              <a:ext cx="2171160" cy="1628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700" spc="-1" strike="noStrike">
                  <a:solidFill>
                    <a:srgbClr val="000000"/>
                  </a:solidFill>
                  <a:latin typeface="Times New Roman"/>
                </a:rPr>
                <a:t>Прогнози-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700" spc="-1" strike="noStrike">
                  <a:solidFill>
                    <a:srgbClr val="000000"/>
                  </a:solidFill>
                  <a:latin typeface="Times New Roman"/>
                </a:rPr>
                <a:t>рование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8446"/>
            <p:cNvSpPr/>
            <p:nvPr/>
          </p:nvSpPr>
          <p:spPr>
            <a:xfrm flipV="1">
              <a:off x="5419080" y="2412000"/>
              <a:ext cx="847080" cy="50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8447"/>
            <p:cNvSpPr/>
            <p:nvPr/>
          </p:nvSpPr>
          <p:spPr>
            <a:xfrm>
              <a:off x="6031800" y="1090080"/>
              <a:ext cx="2171160" cy="16290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Плани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рова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8448"/>
            <p:cNvSpPr/>
            <p:nvPr/>
          </p:nvSpPr>
          <p:spPr>
            <a:xfrm flipV="1">
              <a:off x="4571640" y="1799640"/>
              <a:ext cx="0" cy="81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8449"/>
            <p:cNvSpPr/>
            <p:nvPr/>
          </p:nvSpPr>
          <p:spPr>
            <a:xfrm>
              <a:off x="3485880" y="171000"/>
              <a:ext cx="2171160" cy="16290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Целе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полага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8450"/>
            <p:cNvSpPr/>
            <p:nvPr/>
          </p:nvSpPr>
          <p:spPr>
            <a:xfrm>
              <a:off x="3485880" y="2614320"/>
              <a:ext cx="2171160" cy="16282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Times New Roman"/>
                </a:rPr>
                <a:t>Регулятивные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Решите прим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 + 1                           5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+ 1                           7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+ 1                           3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Слова – синонимы</a:t>
            </a: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знать, какие слова являются синоним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читься находить синонимы в тек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ренироваться в редактировании предложений, используя слова-синони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Поменяйте мест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равниваем свой вывод с авторск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споминаем то, что мы зн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именяем новые знания, развиваем ум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аем проблему, открываем новые 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Исправленный план</a:t>
            </a: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споминаем то, что мы зн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аем проблему, открываем новые 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равниваем свой вывод с авторск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именяем новые знания, развиваем ум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помним, что мы зн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пробу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верим сделанные вы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меним полученные 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Прочитай и реши задач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лина ленты равна 18 метров. От ленты отрезали её шестую часть. Какую длину имеет оставшийся кус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689880" y="3984480"/>
            <a:ext cx="245412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avlab</cp:lastModifiedBy>
  <dcterms:modified xsi:type="dcterms:W3CDTF">2014-10-02T04:57:1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